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BB6F-A830-4E61-9D24-D3FD058E8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68F-5454-4AAA-848B-3653D242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C4EF-ACD0-4A64-A37E-4C14C7A34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2983-1EFD-4A31-BFDC-68EE859B46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B1B8D-02CB-489B-88CB-59D11400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38F5E-0C99-4424-A4CD-0A88D294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FBDA-4E77-4B12-9D5F-656EF82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9DE07-4569-41A2-B95B-AD4E76F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4448-8761-4D94-8D0C-4ABFAF1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EA64-D88C-4D38-AC58-1CBFBAD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CB79-F9CE-4AC9-B638-2DD80FC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98ECB-803F-4BB0-A585-F75422A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B435-A30F-42F5-8140-35809FE6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4E47E-72A7-4A66-A8F6-6CA47196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882B-3946-412C-9DF2-223D8DA6E3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D0AA2-4D38-4F1F-AFAE-14082721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5D548-B4BB-484C-80BC-DD5D711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56199-0EC8-4DB1-9D59-455D26E8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EDFA-33C1-493C-B18F-5C29D39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8B82A-A117-4CC8-BDCF-EEC4608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38EC9-2C5E-44FF-A394-9788778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D7164-E76A-4FE7-BEE8-4779C36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70351-A657-4561-9EAB-58EE90A3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0E0F5-2190-4EDB-929C-EEB99EA7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6559-C468-4BCE-8134-1974790D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CB36-43D4-450C-BBFE-DE98315E611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7E73E-949B-4455-B43A-02B0524F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5EEF9-F6D6-4E8B-9D50-A5ED99C0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AD0EB-6287-4DED-8BC8-545D7CD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721E6-3F7C-447B-87AA-B7F5159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0841D-D371-44D8-BB5A-A950D973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996B3-763E-45EC-9851-D284E054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49FD-0077-414A-993F-3A456EEE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D2B1B-7678-4BB9-9FDC-BDB81A0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F6EC4-C291-4BDF-ACDC-CF3C3002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161DC-3F91-45E5-85CA-3212085E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B1F-5EBB-4047-A1E8-39671FFA3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C2D53-80F9-4D6D-8F32-EBD612D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79726-7676-4B46-BE70-4A0A8BB2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FBBF-1473-4F2F-B07D-E24035BB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3C0A0-DC01-461A-B579-0E1D7676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F1978-539F-491F-885E-22E43F4C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408B7-F32D-48C8-B8DE-83705EAC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EEE9-B1F6-49A0-A375-D78ADC7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E6A67-A18B-438A-A1D0-42165998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8B148-1C2E-4AB3-A316-573C9F12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C1024-6F8B-43F2-9C32-D83F604D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091-40FE-45B2-A675-4ACBD6B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2FABE-7F17-4656-9CC9-17E5FCB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3423-AD9D-45C7-A27F-FF846B19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1D1BD-A3C7-40DD-BEAC-8CCCB5B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0BFDE-2CF7-4364-AF50-FDD2120E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4B6FD-2711-42BB-8879-FE72557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E57-6943-44E9-B0C6-62D28B2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892-3364-45D6-A91F-5E07E97F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EF5-3492-4E49-AE33-AD93F4B4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D60-709A-4526-A2F0-36461565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BBF-7F46-4314-A5E6-6AAE1F8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C243-8004-4BA8-89AF-AE13ED298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F68-871F-4629-9142-707BD36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ABA-1634-4592-8601-27A172D0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7D1-B4D5-46D7-81C6-AF1D4D36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D25-83B9-4A5E-AECD-A66832E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3DE-85BC-4C7F-A88B-447FF515F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581-7B71-47E0-ACFC-7A72C8A1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3EAE-C8DD-44E4-8A0A-8C421E80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864D-67C2-4D24-98B5-767D9BD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757-4A48-48C1-941B-2D924C3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639-62DE-4BA2-A3CA-567A0231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76B4-EA6D-4E93-B235-1E0C6EA4CA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54B1-50EA-437E-9CAA-26AE8A5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02E-1F70-4882-B1F7-5662ECD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9AA2-9FB1-4581-841D-1850DFB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933-F4A3-4EDF-BD30-C8FF510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4DB0-D300-4C96-9C91-828BAB82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DF4B-E67B-47BF-AEB1-0E22F4B1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8D8B-5237-470A-A5F3-264BDEA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C935-04C3-4F51-A499-0CEB25BA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65DBF-2DC4-4C8F-950C-238B3D48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AD04-33C5-4E78-9191-BBF31D0B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BB05-23D9-4B43-8757-6AD43A1C83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15B7-2124-4661-A1F8-3436AFAF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C994B-859D-4FAF-AE68-C5084D5E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6DD0-79BD-4418-A3F6-7E710F3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5CEF-572A-45B9-895E-FDF5252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91C4-0462-41E3-8B67-2C5F7BD6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47D8F-01FC-426B-8060-DCA993E3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54D6-00BC-4E3D-8328-40CEBB38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7BC4-F2B2-4865-8CC5-BD67911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51C8-AD3F-45BF-AAD5-043CD14B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1E03-0013-40CF-BD92-4D901989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DA0B-0DD1-45F1-B363-426CC979E77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303F-8F05-4579-82E8-6818A4A6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2E40-6338-4F10-824B-3CC994DA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A069F-758E-4238-A841-8AFB47F7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5D39-675A-4BB6-86FE-FA740939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1A7A5-0872-4B75-8A39-1A045D5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8E93-79FE-463C-865D-291B567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3E2C7-8453-4DCF-BA40-E3F8445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BCB6-D747-43D5-8101-6167FD4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11EC-2D54-4263-8E75-28F16DB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7A1A-A465-484E-9E22-ED6330DF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2AB3-F8F9-4FC0-9215-07DD0CB58B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C5F2-8792-4BAA-A4F4-5092D6C5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F74E4-5FBE-4961-84E6-F3C6299F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2D55-286E-4329-92FE-FE3ACAF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7F2BC-F22E-4602-9272-2107DBD9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FA796-12FB-4C8F-A6E9-9D45F5B1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5324A-9AA9-4C57-BC22-B181DFE9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D1AA1-4A72-41EE-9631-F1729D3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BFB0A-9197-456D-9032-C31D302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3D2D-D674-4BAE-A052-D368D433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1DD7-BAD5-42BA-8EF8-C89D4CFB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B1C5-E5EF-45D4-B08C-7104A37A8C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35AD-671C-4B51-89CB-2DA93EF2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FCFE3-69C2-46B5-9BC5-0A240E87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4F7E-1C44-49C9-8EBE-DB0945A2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A6B6-ED5A-4A30-8E87-89C5879A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8851-DE0C-4BBB-A783-601DCE4D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BC71-EE2C-4AE1-ABF1-D7813A7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E9D6-B02F-45FE-8C1A-06BA8EE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1780-2760-4702-ABAB-677C4EF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8ECE-1856-49A7-B813-FD58067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A902-1CC0-419D-8B6D-4366FCC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9A95-A8CE-4810-A0A8-04939B38A89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31E3-BCB9-4B9C-867C-C04D5CC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525BE-485B-4672-A6E3-67A6FB44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EBA22-B594-46BB-9A9D-9B79900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3797-0569-4D81-A5D6-FC6317B4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C1F0-0600-4008-A7C5-8B892DA1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B7BCF-4B53-419B-87D7-4A641E7C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F3E43-B8D8-4A8D-AAA5-1446563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BBFD8-0B6E-457B-A7F6-8D70F01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F8C4A-02D2-4697-AEF3-F7CD404E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34F1-6FFF-40F9-87D6-DA482120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7E6F-6F97-45A3-A15C-A45AC4AA4B4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3875-9DBA-49DE-B4BE-06730F5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29119-E689-4B41-A7C7-855AE18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0521-0FCA-42F1-86C2-54F95626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82F32-2389-4DEA-919F-757B4B6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B61F-3411-4E29-8460-5C4A745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C045D-E5DB-46D6-9BA1-D8B29783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F0D9-B6D5-4215-AAA3-94659A8C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5E20-20EF-4C65-8237-F1A73443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9613-A06E-4A0E-A84C-2AF64049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F8B89-A6C8-4D15-9BB2-62257E47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AEFF-4200-4145-BB8F-2CBA9C2501F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932-9263-4EFC-964D-C1B44BCDE72B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6D81-12A4-4F4D-84DC-FF1A328C595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E907-5477-47C5-BC5F-F6DBFD95683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FB33-8A82-462A-B04B-7D0FD08D306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C2F-D024-4473-8688-0C469772D58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C3E-597C-407C-B5B7-4BAD24E23AA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C1AF-987B-428C-8F81-BE2C8C801BA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3B0E-3492-4C59-B54C-8E0B2272092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643-29B3-4987-9D30-C7DD3C50B872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A2DE-62D5-4B23-8ABC-3BACE7D536D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C65-E7E7-45F4-AD75-56A4D25FE1A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candy bouquets. The starting price is $16 for five candy bars and another $1.99 for each additional candy bar. Write an equation in slope-intercept form that expresses the total amount of the candy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1.99x + 16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flower shop sells Mother’s Day pink chrysanthemums in wicker baskets. The wicker basket costs $11, and each flower is $3. Write an equation in slope-intercept form that expresses the total amount a Mother’s Day gift would cos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3x + 1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loriculture students develop floristry prices by using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loriculture—FL 1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evelop marketing and pricing strategies for retail florist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reate an invoice for sale using industry standard formula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A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create linear models to represent problem situation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telephone bill is $10 per month plus $0.30 per minute for long distance calls. Write an equation in slope-intercept form that expresses the total amount of the phone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-intercept form: y = mx + b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m = slope of the lin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x = variable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b = y-intercept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lope = rise/ru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lower shop charges $25 for a bouquet of six lily flowers. Each additional lily costs $2.75. Write an equation in slope-intercept form that expresses the total amount of the flower bouquet bill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Remember the slope-intercept form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y = mx + b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set cost ($25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cost that changes according to the x variab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75x + 25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the gift shop sells rose boutonnieres for a beginning price of $9. Each additional small rose adds an extra $2.50 to the price. Write an equation in slope-intercept form that expresses the total amount of a boutonnie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 = slope of the line = $2.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b = y-intercept, set number = $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 = 2.5x + 9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1T05:03:17Z</dcterms:modified>
  <cp:revision>15</cp:revision>
  <dc:subject/>
  <dc:title>South Dakota Ag Education</dc:title>
</cp:coreProperties>
</file>